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95E4-8508-4BFB-B6CA-6EB62F25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C05C-7841-4E3D-9C68-5BCC9C82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1B81-93E3-4A17-9AB1-56B125F4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AAD2-C613-4BF2-817C-D790B730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C2AF-0404-4ED3-9412-474643E5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8B5D-DCC7-4A7E-BB12-BB0AEA4A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D174-BA5E-4877-B43E-A3ECC905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7AC3-9F88-4A1F-9A94-5F5513A2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65EA-4DEA-4306-B1B8-37726CC5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8523-BEB6-4CDA-9B74-F9DD52AF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8583-2B18-4438-894A-7FD31217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F8A-6F4A-45CB-B45F-E30AAB71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C040-FBF3-4F51-AC91-3F917D68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86B2-F9B4-46CD-AD4A-7D9B7722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2447-4EF2-45F3-A94F-BFBB25AF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6583-EAB5-4A51-82C4-2AE0795B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FE9C-005F-4428-A260-84776931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DC337-86A2-4688-A2B4-1F2A6336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F1EF1-B760-445C-A921-6DC5A24D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3CD6E-7239-4803-BA10-7616792D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E1215-0DC0-4786-AB04-A0FC5860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7830C-94D1-4E28-88A8-BBD58CFF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59FF-F59F-4302-AACE-33A46AFF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1D80F-BEF9-4832-92B6-0A74E83A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39463-B8C6-4F2D-AAB7-B638DBD2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70C1D-80CB-4221-B728-2E0C3393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B1767-856D-44EE-9B28-F3483F5F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DD0ED-2D9A-44C3-983A-765C6C08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561C4-AB02-461C-90C6-EB9DB61A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5D330-6913-4CDE-9E79-31015AAA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065E7-AAD1-4C52-B374-23FE9DD1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3F561-4EE1-4D20-8131-19437B34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7FB9C-DCBA-4B81-994D-6F95BEDB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E1C3-0333-407E-82B1-C0039A41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FAD13-F7BD-447A-8560-84F63456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129CC-BF15-417C-B334-8B4FCAD1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FF167-BD6D-4E19-B757-0E299EC5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66571-61B5-4D81-8EFF-972BE722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77BA8-FD86-4BB5-B301-DE8C164E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17F96-48DA-44E6-A807-24F9F19C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07782-01A7-4C8E-84EC-598704F2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58272-67EE-485F-8E96-F5FBC563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7BDF2-35E8-4740-82F1-12485A32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FA56-2F97-444C-9B55-46B37AA7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F6B7-BDA5-4C82-890F-DA93D803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74BD-21E1-4450-868D-EF72A3F6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4ED6-E9B4-4D90-9644-A6FF329B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D045-01FC-47E0-BF22-C56DD4EA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69AC-BCDA-42C6-84C7-95CDD24CAB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CA8E-60CD-4202-A460-ACF7D029BB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DFB8-70C7-4D1A-A650-0D4B7ABDD3C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89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1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3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2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40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48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3029-8A2A-4F4A-AB6E-07790827FAF6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Рисунок 1" descr="загруженное4.jpg"/>
          <p:cNvPicPr/>
          <p:nvPr/>
        </p:nvPicPr>
        <p:blipFill>
          <a:blip r:embed="rId1"/>
          <a:stretch/>
        </p:blipFill>
        <p:spPr>
          <a:xfrm>
            <a:off x="1928880" y="0"/>
            <a:ext cx="4786200" cy="64911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1" descr="images (3).jpg"/>
          <p:cNvPicPr/>
          <p:nvPr/>
        </p:nvPicPr>
        <p:blipFill>
          <a:blip r:embed="rId1"/>
          <a:stretch/>
        </p:blipFill>
        <p:spPr>
          <a:xfrm>
            <a:off x="2214720" y="214200"/>
            <a:ext cx="4643280" cy="6222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Рисунок 1" descr="чеб.jpg"/>
          <p:cNvPicPr/>
          <p:nvPr/>
        </p:nvPicPr>
        <p:blipFill>
          <a:blip r:embed="rId1"/>
          <a:stretch/>
        </p:blipFill>
        <p:spPr>
          <a:xfrm>
            <a:off x="1428840" y="357120"/>
            <a:ext cx="5929200" cy="5929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cc"/>
                </a:solidFill>
                <a:latin typeface="Calibri"/>
              </a:rPr>
              <a:t>Чиполлино</a:t>
            </a:r>
            <a:br>
              <a:rPr sz="9600"/>
            </a:br>
            <a:r>
              <a:rPr b="0" lang="ru-RU" sz="9600" spc="-1" strike="noStrike">
                <a:solidFill>
                  <a:srgbClr val="0000cc"/>
                </a:solidFill>
                <a:latin typeface="Calibri"/>
              </a:rPr>
              <a:t>Винни-Пух</a:t>
            </a:r>
            <a:br>
              <a:rPr sz="9600"/>
            </a:br>
            <a:r>
              <a:rPr b="0" lang="ru-RU" sz="9600" spc="-1" strike="noStrike">
                <a:solidFill>
                  <a:srgbClr val="0000cc"/>
                </a:solidFill>
                <a:latin typeface="Calibri"/>
              </a:rPr>
              <a:t>Чебурашка</a:t>
            </a:r>
            <a:br>
              <a:rPr sz="72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Чипо</a:t>
            </a:r>
            <a:r>
              <a:rPr b="0" lang="ru-RU" sz="9600" spc="-1" strike="noStrike" u="sng">
                <a:solidFill>
                  <a:srgbClr val="00b050"/>
                </a:solidFill>
                <a:uFillTx/>
                <a:latin typeface="Calibri"/>
              </a:rPr>
              <a:t>лл</a:t>
            </a: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ино</a:t>
            </a:r>
            <a:br>
              <a:rPr sz="9600"/>
            </a:b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Ви</a:t>
            </a:r>
            <a:r>
              <a:rPr b="0" lang="ru-RU" sz="9600" spc="-1" strike="noStrike" u="sng">
                <a:solidFill>
                  <a:srgbClr val="00b050"/>
                </a:solidFill>
                <a:uFillTx/>
                <a:latin typeface="Calibri"/>
              </a:rPr>
              <a:t>нн</a:t>
            </a: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и-Пух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WordArt 4"/>
          <p:cNvSpPr txBox="1"/>
          <p:nvPr/>
        </p:nvSpPr>
        <p:spPr>
          <a:xfrm>
            <a:off x="1332000" y="0"/>
            <a:ext cx="6697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двоенные согласные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корне слов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9000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324000" y="981000"/>
            <a:ext cx="828036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137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сание слов с удвоенной согласной буквой надо запом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J0078733"/>
          <p:cNvPicPr/>
          <p:nvPr/>
        </p:nvPicPr>
        <p:blipFill>
          <a:blip r:embed="rId1"/>
          <a:stretch/>
        </p:blipFill>
        <p:spPr>
          <a:xfrm>
            <a:off x="539640" y="2637000"/>
            <a:ext cx="1395360" cy="39272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3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686440" y="6021000"/>
            <a:ext cx="20628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WordArt 6"/>
          <p:cNvSpPr txBox="1"/>
          <p:nvPr/>
        </p:nvSpPr>
        <p:spPr>
          <a:xfrm>
            <a:off x="1042920" y="0"/>
            <a:ext cx="6481800" cy="37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7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лаю успеха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самостоятельной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боте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5000">
    <p:pull dir="l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85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385" fill="hold"/>
                                        <p:tgtEl>
                                          <p:spTgt spid="3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385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385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08:32:51Z</dcterms:created>
  <dc:creator>155</dc:creator>
  <dc:description/>
  <dc:language>en-US</dc:language>
  <cp:lastModifiedBy>User</cp:lastModifiedBy>
  <dcterms:modified xsi:type="dcterms:W3CDTF">2013-02-14T21:31:41Z</dcterms:modified>
  <cp:revision>25</cp:revision>
  <dc:subject/>
  <dc:title>Слайд 1</dc:title>
</cp:coreProperties>
</file>